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AE3C-B9C2-4D09-B3D8-88B686D58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6208-2ACB-4FC8-A5B4-1149CFE6A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6090-E04F-4495-9598-3794694B5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D9EC-EECA-40D1-99D5-FC6EC819F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ECE3-7FE9-4483-9433-3CB576269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E4C8-39BC-40FC-9A09-B60BCBE7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9410-9825-4058-98CA-2FAB852C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616F-10E8-4CE7-A628-74C5794D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2E00-9CA1-41DA-A993-B51474943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4C75-0314-487C-B61F-87AC0E8F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BDB2-6327-4ABC-AEB8-01BB675B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34F9-BB9B-4989-BA59-AD93248A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D988-C4AD-445E-B8F2-3FECC278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236A-A1FA-4654-B071-CD05A4EF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82A4-7CF2-42E9-B8FD-D848B0CF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D77D-B571-4D40-A6F0-78C36B28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1CBB-F039-428D-91AB-C73BA584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4C4E-D671-45A1-9E06-0D8F91C3A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TEL LIFE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Hotel Life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0504d"/>
                </a:solidFill>
                <a:uFillTx/>
                <a:latin typeface="Calibri"/>
              </a:rPr>
              <a:t>Years</a:t>
            </a:r>
            <a:r>
              <a:rPr b="1" lang="en-US" sz="2600" spc="-1" strike="noStrike" u="sng">
                <a:solidFill>
                  <a:srgbClr val="c0504d"/>
                </a:solidFill>
                <a:uFillTx/>
                <a:latin typeface="Calibri"/>
              </a:rPr>
              <a:t>	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n-US" sz="2600" spc="-1" strike="noStrike" u="sng">
                <a:solidFill>
                  <a:srgbClr val="c0504d"/>
                </a:solidFill>
                <a:uFillTx/>
                <a:latin typeface="Calibri"/>
              </a:rPr>
              <a:t>Occupancy &amp; Inco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0 – 2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Introduction to market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2 – 4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Occupancy rises slow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4 – 5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Gradual increases in inco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5 – 7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Stabilized income lev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7 – 10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Decline due to deterioration &amp; obsolesce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alibri"/>
              </a:rPr>
              <a:t>Lifecycles can be lengthened based on maintenance &amp; upgr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WordArt 5"/>
          <p:cNvSpPr txBox="1"/>
          <p:nvPr/>
        </p:nvSpPr>
        <p:spPr>
          <a:xfrm>
            <a:off x="457200" y="91440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Hotel Life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Object 2"/>
          <p:cNvGraphicFramePr/>
          <p:nvPr/>
        </p:nvGraphicFramePr>
        <p:xfrm>
          <a:off x="411120" y="1481040"/>
          <a:ext cx="8616960" cy="525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481040"/>
                    <a:ext cx="8616960" cy="525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WordArt 4"/>
          <p:cNvSpPr txBox="1"/>
          <p:nvPr/>
        </p:nvSpPr>
        <p:spPr>
          <a:xfrm>
            <a:off x="533520" y="91440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Value per Hotel Ro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Object 2"/>
          <p:cNvGraphicFramePr/>
          <p:nvPr/>
        </p:nvGraphicFramePr>
        <p:xfrm>
          <a:off x="228600" y="1481040"/>
          <a:ext cx="8799480" cy="525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81040"/>
                    <a:ext cx="8799480" cy="525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WordArt 4"/>
          <p:cNvSpPr txBox="1"/>
          <p:nvPr/>
        </p:nvSpPr>
        <p:spPr>
          <a:xfrm>
            <a:off x="533520" y="91440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Line 5"/>
          <p:cNvSpPr/>
          <p:nvPr/>
        </p:nvSpPr>
        <p:spPr>
          <a:xfrm flipV="1">
            <a:off x="2590920" y="2743200"/>
            <a:ext cx="0" cy="137160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6"/>
          <p:cNvSpPr/>
          <p:nvPr/>
        </p:nvSpPr>
        <p:spPr>
          <a:xfrm flipV="1">
            <a:off x="4419720" y="4267080"/>
            <a:ext cx="0" cy="137160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7"/>
          <p:cNvSpPr/>
          <p:nvPr/>
        </p:nvSpPr>
        <p:spPr>
          <a:xfrm flipV="1">
            <a:off x="5334120" y="5181480"/>
            <a:ext cx="0" cy="609840"/>
          </a:xfrm>
          <a:prstGeom prst="line">
            <a:avLst/>
          </a:prstGeom>
          <a:ln w="63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8"/>
          <p:cNvSpPr/>
          <p:nvPr/>
        </p:nvSpPr>
        <p:spPr>
          <a:xfrm flipV="1">
            <a:off x="6248520" y="5181480"/>
            <a:ext cx="0" cy="609840"/>
          </a:xfrm>
          <a:prstGeom prst="line">
            <a:avLst/>
          </a:prstGeom>
          <a:ln w="63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3276720" y="4038480"/>
            <a:ext cx="53316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Calibri"/>
              </a:rPr>
              <a:t>Hotel Expen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60093"/>
                </a:solidFill>
                <a:latin typeface="Calibri"/>
              </a:rPr>
              <a:t>Rooms Divi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60093"/>
                </a:solidFill>
                <a:latin typeface="Calibri"/>
              </a:rPr>
              <a:t>Food &amp; Beve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533520" y="60948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371600" y="1384200"/>
          <a:ext cx="6477120" cy="2274840"/>
        </p:xfrm>
        <a:graphic>
          <a:graphicData uri="http://schemas.openxmlformats.org/drawingml/2006/table">
            <a:tbl>
              <a:tblPr/>
              <a:tblGrid>
                <a:gridCol w="3505320"/>
                <a:gridCol w="2971800"/>
              </a:tblGrid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d60093"/>
                          </a:solidFill>
                          <a:uFillTx/>
                          <a:latin typeface="Times New Roman"/>
                        </a:rPr>
                        <a:t>Categor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d60093"/>
                          </a:solidFill>
                          <a:uFillTx/>
                          <a:latin typeface="Times New Roman"/>
                        </a:rPr>
                        <a:t>Percent of Expens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Salaries &amp; wag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50 – 7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Employee benefi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5 – 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Laundr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7 – 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Suppli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1 - 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295280" y="4508640"/>
          <a:ext cx="6477120" cy="2274840"/>
        </p:xfrm>
        <a:graphic>
          <a:graphicData uri="http://schemas.openxmlformats.org/drawingml/2006/table">
            <a:tbl>
              <a:tblPr/>
              <a:tblGrid>
                <a:gridCol w="3581640"/>
                <a:gridCol w="2895480"/>
              </a:tblGrid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d60093"/>
                          </a:solidFill>
                          <a:uFillTx/>
                          <a:latin typeface="Times New Roman"/>
                        </a:rPr>
                        <a:t>Categor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d60093"/>
                          </a:solidFill>
                          <a:uFillTx/>
                          <a:latin typeface="Times New Roman"/>
                        </a:rPr>
                        <a:t>Percent of Expens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Food cos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35 – 4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Beverage sa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20 – 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Salaries &amp; wag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25 – 3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Employee benefi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2 - 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-228600"/>
            <a:ext cx="7219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Income Calcu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533520" y="60948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2514600" y="5715000"/>
            <a:ext cx="4038480" cy="10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60093"/>
                </a:solidFill>
                <a:latin typeface="Times New Roman"/>
              </a:rPr>
              <a:t>Departmental Expenses = 35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60093"/>
                </a:solidFill>
                <a:latin typeface="Times New Roman"/>
              </a:rPr>
              <a:t>Operating Expenses = 2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60093"/>
                </a:solidFill>
                <a:latin typeface="Times New Roman"/>
              </a:rPr>
              <a:t>Fixed Charges Expense = 5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Object 2"/>
          <p:cNvGraphicFramePr/>
          <p:nvPr/>
        </p:nvGraphicFramePr>
        <p:xfrm>
          <a:off x="1295280" y="1046160"/>
          <a:ext cx="6172200" cy="451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046160"/>
                    <a:ext cx="6172200" cy="45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What Makes a Hotel Profitab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Profits = Income before capital reserve, rent, debt service, income taxes, depreciation and amortiz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Calibri"/>
              </a:rPr>
              <a:t>Hotels that have higher profit margi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Are smal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Rely less on Food &amp; Beverag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Able to control departmental expen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WordArt 3"/>
          <p:cNvSpPr txBox="1"/>
          <p:nvPr/>
        </p:nvSpPr>
        <p:spPr>
          <a:xfrm>
            <a:off x="533520" y="83808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Controlling Labor Co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Payroll &amp; Benefit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= </a:t>
            </a:r>
            <a:r>
              <a:rPr b="0" lang="en-US" sz="2600" spc="-1" strike="noStrike">
                <a:solidFill>
                  <a:srgbClr val="d60093"/>
                </a:solidFill>
                <a:latin typeface="Calibri"/>
              </a:rPr>
              <a:t>64%</a:t>
            </a: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 of rooms department expen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= </a:t>
            </a:r>
            <a:r>
              <a:rPr b="0" lang="en-US" sz="2600" spc="-1" strike="noStrike">
                <a:solidFill>
                  <a:srgbClr val="d60093"/>
                </a:solidFill>
                <a:latin typeface="Calibri"/>
              </a:rPr>
              <a:t>43%</a:t>
            </a: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 of total operating expen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= </a:t>
            </a:r>
            <a:r>
              <a:rPr b="0" lang="en-US" sz="2600" spc="-1" strike="noStrike">
                <a:solidFill>
                  <a:srgbClr val="d60093"/>
                </a:solidFill>
                <a:latin typeface="Calibri"/>
              </a:rPr>
              <a:t>33%</a:t>
            </a: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 of total reven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Growth of hotel revenues is virtually identical to the growth of labor cos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(Correlation coefficient of 0.992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60093"/>
                </a:solidFill>
                <a:latin typeface="Calibri"/>
              </a:rPr>
              <a:t>Ways to control lab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1.</a:t>
            </a: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Adjust staff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2.</a:t>
            </a: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Adjust salaries &amp; w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533520" y="60948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Franchise Fe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Calibri"/>
              </a:rPr>
              <a:t>Franchise fees are the 2</a:t>
            </a:r>
            <a:r>
              <a:rPr b="0" lang="en-US" sz="2800" spc="-1" strike="noStrike" baseline="30000">
                <a:solidFill>
                  <a:srgbClr val="d60093"/>
                </a:solidFill>
                <a:latin typeface="Calibri"/>
              </a:rPr>
              <a:t>nd</a:t>
            </a:r>
            <a:r>
              <a:rPr b="0" lang="en-US" sz="2800" spc="-1" strike="noStrike">
                <a:solidFill>
                  <a:srgbClr val="d60093"/>
                </a:solidFill>
                <a:latin typeface="Calibri"/>
              </a:rPr>
              <a:t> larg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Calibri"/>
              </a:rPr>
              <a:t>operating expense after payro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533520" y="60948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62" name="Object 2"/>
          <p:cNvGraphicFramePr/>
          <p:nvPr/>
        </p:nvGraphicFramePr>
        <p:xfrm>
          <a:off x="147600" y="2438280"/>
          <a:ext cx="4199040" cy="426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00" y="2438280"/>
                    <a:ext cx="419904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3"/>
          <p:cNvGraphicFramePr/>
          <p:nvPr/>
        </p:nvGraphicFramePr>
        <p:xfrm>
          <a:off x="4876920" y="2438280"/>
          <a:ext cx="4267080" cy="4195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438280"/>
                    <a:ext cx="426708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02:24:45Z</dcterms:created>
  <dc:creator>robert</dc:creator>
  <dc:description/>
  <dc:language>en-US</dc:language>
  <cp:lastModifiedBy>robert</cp:lastModifiedBy>
  <dcterms:modified xsi:type="dcterms:W3CDTF">2011-04-14T02:38:20Z</dcterms:modified>
  <cp:revision>2</cp:revision>
  <dc:subject/>
  <dc:title>HOTEL LIFE CYCLE</dc:title>
</cp:coreProperties>
</file>